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382C-39E8-4B05-9AA1-D8DB42AD70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Mice and Men </a:t>
            </a:r>
            <a:br>
              <a:rPr sz="1200"/>
            </a:br>
            <a:r>
              <a:rPr b="0" lang="en-US" sz="1200" spc="-1" strike="noStrike">
                <a:solidFill>
                  <a:srgbClr val="ffffff"/>
                </a:solidFill>
                <a:latin typeface="Arial"/>
              </a:rPr>
              <a:t>Themes: Viol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ice and Men </a:t>
            </a:r>
            <a:br>
              <a:rPr sz="1200"/>
            </a:br>
            <a:r>
              <a:rPr b="0" lang="en-US" sz="1200" spc="-1" strike="noStrike">
                <a:solidFill>
                  <a:srgbClr val="000000"/>
                </a:solidFill>
                <a:latin typeface="Arial"/>
              </a:rPr>
              <a:t>Themes: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the most obviously violent character. Whenever he appears there is a feeling of ten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described as pugnacious when we first meet him, and causes George to rem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the hell's he got on his shoul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the most obviously violent character. Whenever he appears there is a feeling of 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described as pugnacious when we first meet him, and causes George to re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hell's he got on his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 is another character associated with violence. He is unconcerned about killing Candy's dog (and in fact callously cleans the gun in Candy's pres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goes to watch the fun when Curley thinks Slim may be with his wife, and later goads Curley more, threatening to '... kick your head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he is very keen to get his gun to join in the hunt for Lenni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is another character associated with violence. He is unconcerned about killing Candy's dog (and in fact callously cleans the gun in Candy's pres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goes to watch the fun when Curley thinks Slim may be with his wife, and later goads Curley more, threatening to '... kick your head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he is very keen to get his gun to join in the hunt for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so little control over his own strength that he accidentally kills his puppy, and then minutes later snuffs out the life of Curley's wi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so little control over his own strength that he accidentally kills his puppy, and then minutes later snuffs out the life of 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threat of violence to be used against Lennie that causes George to take the final step of killing his fri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threat of violence to be used against Lennie that causes George to take the final step of killing his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inbeck shows the world of nature to be a beautiful and peaceful one, but threatened by the actions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ginning of the novel sets this pattern, as the creatures at the pool are disturbed by George and Lennie's appro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anch and its buildings, being created by men, are in contrast with the natural world. Notice that the bunkhouse, for example, is quite bare and st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more unnatural is that Candy and Crooks are both deformed or unnatural in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ed to these two characters is Lennie, who almost seems a part of the natural world as he is described in animal te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eck shows the world of nature to be a beautiful and peaceful one, but threatened by the actions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 of the novel sets this pattern, as the creatures at the pool are disturbed by George and Lennie'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ch and its buildings, being created by men, are in contrast with the natural world. Notice that the bunkhouse, for example, is quite bare and st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unnatural is that Candy and Crooks are both deformed or unnatural in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to these two characters is Lennie, who almost seems a part of the natural world as he is described in animal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FBF03-E1B2-4033-BC53-DAC6D05E9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86FD1-352F-43C5-983E-8D31E9F07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A7B31-E9CF-4DF2-B02A-06ED71778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46562-8C5D-4AF2-B605-E21D8A41B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43CEB85-0C9F-4654-B1B6-CB381F601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CD76673-5B47-4F69-8FD1-A248F41A7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B454AB-DFAD-41CB-98C7-584A40ECC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9BE2955-FC7A-4621-81C7-C88AC352D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801B89-AC00-4156-B0A1-1E5A446E9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B4F5957-CDEB-42B9-AC04-6D69E37B7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E6584C-6810-4E73-BF20-41BC15B3C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3FF17-2254-440F-A761-064785731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BDC33D-098F-44B8-B52A-E8EA2D9CB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95DE10-39A8-4397-A07C-D200335EC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B491DB-E652-4BA0-87F2-CA8C4BB4B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7405BF8-8E46-43D4-A1A4-F96A6962C7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8A0206F-17FE-4A4B-B399-727BC2E092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31E9E-24AA-4DBF-A60B-9914706B1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27837-EA54-4C05-95E6-6C4EB2401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39221-4F11-4451-A990-262EB57B3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8A1F1-FE76-44F2-A9F0-04A06B9D7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1C39-409B-4D49-927A-7058BA52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EBDCE-D975-485A-8299-7E3719BC0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DC8E0-E470-4CCF-A46F-AE6874676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B723-B52A-4A2A-A545-1A02540B5E2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347F-5FEB-48E4-A6C5-92BB633545E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Of Mice and Men </a:t>
            </a:r>
            <a:br>
              <a:rPr sz="5400"/>
            </a:br>
            <a:r>
              <a:rPr b="0" lang="en-GB" sz="5400" spc="-1" strike="noStrike">
                <a:solidFill>
                  <a:srgbClr val="e3e3ff"/>
                </a:solidFill>
                <a:latin typeface="Arial"/>
              </a:rPr>
              <a:t>Themes: Violence</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urley</a:t>
            </a:r>
            <a:endParaRPr b="0" lang="en-US" sz="4400" spc="-1" strike="noStrike">
              <a:solidFill>
                <a:srgbClr val="e3e3ff"/>
              </a:solidFill>
              <a:latin typeface="Arial"/>
            </a:endParaRPr>
          </a:p>
        </p:txBody>
      </p:sp>
      <p:sp>
        <p:nvSpPr>
          <p:cNvPr id="13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the most obviously violent character. Whenever he appears there is a feeling of ten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described as pugnacious when we first meet him, and causes George to remar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at the hell's he got on his shoul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arlson</a:t>
            </a:r>
            <a:endParaRPr b="0" lang="en-US" sz="4400" spc="-1" strike="noStrike">
              <a:solidFill>
                <a:srgbClr val="e3e3ff"/>
              </a:solidFill>
              <a:latin typeface="Arial"/>
            </a:endParaRPr>
          </a:p>
        </p:txBody>
      </p:sp>
      <p:sp>
        <p:nvSpPr>
          <p:cNvPr id="134"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lson is another character associated with violence. He is unconcerned about killing Candy's dog (and in fact callously cleans the gun in Candy's pres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goes to watch the fun when Curley thinks Slim may be with his wife, and later goads Curley more, threatening to '... kick your head off.'</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ter he is very keen to get his gun to join in the hunt for Lenni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Lenni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has so little control over his own strength that he accidentally kills his puppy, and then minutes later snuffs out the life of Curley's wif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threat of violence to be used against Lennie that causes George to take the final step of killing his frie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3e3ff"/>
                </a:solidFill>
                <a:latin typeface="Arial"/>
              </a:rPr>
              <a:t>Nature</a:t>
            </a: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einbeck shows the world of nature to be a beautiful and peaceful one, but threatened by the actions of m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ginning of the novel sets this pattern, as the creatures at the pool are disturbed by George and Lennie's approac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ranch and its buildings, being created by men, are in contrast with the natural world. Notice that the bunkhouse, for example, is quite bare and star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more unnatural is that Candy and Crooks are both deformed or unnatural in appea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trasted to these two characters is Lennie, who almost seems a part of the natural world as he is described in animal ter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0:15:43Z</dcterms:created>
  <dc:creator>svanvlo</dc:creator>
  <dc:description/>
  <dc:language>en-US</dc:language>
  <cp:lastModifiedBy>RomaK</cp:lastModifiedBy>
  <dcterms:modified xsi:type="dcterms:W3CDTF">2015-09-04T10:36:52Z</dcterms:modified>
  <cp:revision>7</cp:revision>
  <dc:subject/>
  <dc:title>Of Mice and Men  Themes: Violence</dc:title>
</cp:coreProperties>
</file>